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move the slid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BFE8E8-9AEF-48CB-A095-81AD15730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206E6F-C198-4CCA-AE46-0306633FB3C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38F1A5-679C-4EBC-8C32-ED7A4A7E4B2B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571626-D5BF-4D44-9911-2308171DF2A8}" type="slidenum">
              <a:rPr b="0" lang="en-US" sz="13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C7A-E7C2-4AF0-AD82-59982A89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EEA-5862-4F4E-9BA8-865B519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DF3-7069-41B8-8D75-74B6BC6A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804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816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792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804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816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F49-59B9-439E-9B74-E25B5A02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37920" y="189000"/>
            <a:ext cx="8163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B7A-A254-488D-8FA5-0BF5929F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804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8160" y="113328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3792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9804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8160" y="3771000"/>
            <a:ext cx="262836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2EF-F5E6-42D5-81EA-CA21B528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E7E-43E6-44C7-BDFE-F789DAC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334-638F-45E0-9785-45DF5B2E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37920" y="189000"/>
            <a:ext cx="8163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5C2-057D-46D8-B97C-8EF0A7C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996-0ED8-4A52-A8EA-494B65C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377100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F04-8F43-4C18-A553-1C408DC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133280"/>
            <a:ext cx="39834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7920" y="3771000"/>
            <a:ext cx="816300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380-4F26-48F5-AE2F-00FDAD1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6208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3" marL="1619280" indent="-27792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4" marL="206676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5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6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4400" y="6454440"/>
            <a:ext cx="26668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ter date h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3720" y="6454440"/>
            <a:ext cx="21524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440" y="6454440"/>
            <a:ext cx="504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55c1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F65-3C85-4DAE-9743-CDB5B08D2106}" type="slidenum">
              <a:rPr b="0" lang="en-US" sz="1000" spc="-1" strike="noStrike">
                <a:solidFill>
                  <a:srgbClr val="d55c1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"/>
          <p:cNvPicPr/>
          <p:nvPr/>
        </p:nvPicPr>
        <p:blipFill>
          <a:blip r:embed="rId2"/>
          <a:stretch/>
        </p:blipFill>
        <p:spPr>
          <a:xfrm>
            <a:off x="7543800" y="6326280"/>
            <a:ext cx="125244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PowerPoint_STD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lick to edit the title text format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6208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3" marL="1619280" indent="-27792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4" marL="2066760" indent="-26820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5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6" marL="2066760" indent="-26820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PowerPoint_STD_BG_T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d55c19"/>
                </a:solidFill>
                <a:latin typeface="Lucida Sans"/>
              </a:rPr>
              <a:t>GStreamer as multimedia framework in Android: a new alternative.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CELF Embedded Linux Conference Europe 201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Benjamin Gaignar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October 27, 2010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EA7-27C6-48BA-8609-56D75E11444B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tadataRetriever service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umbnail generation for video files uses hardware accelerator for video decoding and color space conversion (YUV2RGB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metadata tags are mapped to GStreamer tags to extract: codec, bit rate, album art, ..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move OpenCore implementation from Android MediaScanner class =&gt; everything is done by GStreamer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a simpler graph than playbin2 for better performance and without cpu/mem heavy cos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uridecodebin uri=%s ! icbtransform ! appsink caps="video/x-raw-rgb,bpp=16”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video is decoded (not audio) for thumbnail genera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A3D-B80D-4044-BC40-9480446C959F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ridecobin optimization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thumbnails generation we don’t need to decode audio stream, we use uridecodebin’s “autoplug-continue” callback to limit graph building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6" descr="uridecodebin.png"/>
          <p:cNvPicPr/>
          <p:nvPr/>
        </p:nvPicPr>
        <p:blipFill>
          <a:blip r:embed="rId1"/>
          <a:stretch/>
        </p:blipFill>
        <p:spPr>
          <a:xfrm>
            <a:off x="0" y="25495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144" name="Multiply 7"/>
          <p:cNvSpPr/>
          <p:nvPr/>
        </p:nvSpPr>
        <p:spPr>
          <a:xfrm>
            <a:off x="4390920" y="446868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0B4F-B8D2-4750-A584-9A79A8949CF1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ridecobin optimizations (2)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or metadata retrieving use the same technique but don’t graph video too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t saves time at graph building, reduce memory usage, don’t use any hardware resourc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0" name="Picture 6" descr="uridecodebin.png"/>
          <p:cNvPicPr/>
          <p:nvPr/>
        </p:nvPicPr>
        <p:blipFill>
          <a:blip r:embed="rId1"/>
          <a:stretch/>
        </p:blipFill>
        <p:spPr>
          <a:xfrm>
            <a:off x="0" y="2549520"/>
            <a:ext cx="9144000" cy="2833560"/>
          </a:xfrm>
          <a:prstGeom prst="rect">
            <a:avLst/>
          </a:prstGeom>
          <a:ln w="0">
            <a:noFill/>
          </a:ln>
        </p:spPr>
      </p:pic>
      <p:sp>
        <p:nvSpPr>
          <p:cNvPr id="151" name="Multiply 7"/>
          <p:cNvSpPr/>
          <p:nvPr/>
        </p:nvSpPr>
        <p:spPr>
          <a:xfrm>
            <a:off x="4390920" y="446868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Multiply 8"/>
          <p:cNvSpPr/>
          <p:nvPr/>
        </p:nvSpPr>
        <p:spPr>
          <a:xfrm>
            <a:off x="4299120" y="3643200"/>
            <a:ext cx="914400" cy="914400"/>
          </a:xfrm>
          <a:prstGeom prst="pie">
            <a:avLst/>
          </a:prstGeom>
          <a:solidFill>
            <a:srgbClr val="d55c19"/>
          </a:solidFill>
          <a:ln w="25560">
            <a:solidFill>
              <a:srgbClr val="9c41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How to cope with Android licensing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is under APACHE licens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under LGPL v2.1 licens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he wrapper between Android multimedia library and GStreamer is under ST-Ericsson copyright and is dedicated to U671X hardware platform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libraries are dynamically linked in Android framework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 NOTICE files in GStreamer to match with Android build proces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649-C824-4636-8E05-9D52D83F4FBC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Improvements done in GStreamer </a:t>
            </a:r>
            <a:br>
              <a:rPr sz="2800"/>
            </a:b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with Collabora Multimedia suppor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videmux and qtdemux parsing speed up and memory consumption reduc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 “push mode” to avidemux, qtdemux and flvdemux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w RTSP buffering mode to handle data burst on mobile network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queue2 ring buffer mode improvemen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QoS message to detect framedrop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those improvements (+ trivial bugs correction) have being released under LGPLv2.0 and are now available on GStreamer main stream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BBD5-028F-485E-A82D-B0895E9CEC30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Enter date here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CC8-B8B4-4E4F-9D75-070C7259C47C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U671X-based  phones in mass production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pic>
        <p:nvPicPr>
          <p:cNvPr id="167" name="Picture 10" descr="e110.jpg"/>
          <p:cNvPicPr/>
          <p:nvPr/>
        </p:nvPicPr>
        <p:blipFill>
          <a:blip r:embed="rId1"/>
          <a:stretch/>
        </p:blipFill>
        <p:spPr>
          <a:xfrm>
            <a:off x="369720" y="148284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3219480" y="9921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2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15960" y="10018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1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5870520" y="100188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ER betouch E13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1" name="Picture 15" descr="tianyi_2.jpg"/>
          <p:cNvPicPr/>
          <p:nvPr/>
        </p:nvPicPr>
        <p:blipFill>
          <a:blip r:embed="rId2"/>
          <a:stretch/>
        </p:blipFill>
        <p:spPr>
          <a:xfrm>
            <a:off x="206280" y="3730680"/>
            <a:ext cx="5562720" cy="31273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6"/>
          <p:cNvSpPr/>
          <p:nvPr/>
        </p:nvSpPr>
        <p:spPr>
          <a:xfrm>
            <a:off x="901800" y="4842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HTC Tianyi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3" name="Picture 17" descr="e120_2.jpg"/>
          <p:cNvPicPr/>
          <p:nvPr/>
        </p:nvPicPr>
        <p:blipFill>
          <a:blip r:embed="rId3"/>
          <a:stretch/>
        </p:blipFill>
        <p:spPr>
          <a:xfrm>
            <a:off x="2928960" y="158760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e130_2.jpg"/>
          <p:cNvPicPr/>
          <p:nvPr/>
        </p:nvPicPr>
        <p:blipFill>
          <a:blip r:embed="rId4"/>
          <a:stretch/>
        </p:blipFill>
        <p:spPr>
          <a:xfrm>
            <a:off x="5504040" y="1574640"/>
            <a:ext cx="30002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onclusion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With minimum effort, GStreamer brings to Android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 full open source multimedia framework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Maturi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dditional codecs (VC1, DIVX…) and demuxers (AVI, FLV…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mmunity support and reactivity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Performance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Evolution (future codec, new streaming protocols, Video Telephony)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C0DB-8AB2-4ECB-A0CB-A48A4F19ED81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PowerPoint_STD_Breake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Questions and Answer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0400" y="2449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THANK YOU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90400" y="4061880"/>
            <a:ext cx="7753680" cy="12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475B-78C8-4F6E-9B9F-B2E8EFA1A704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Context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-Ericsson U671X Android platform on ARM9 @ 416 MHz with video, audio and graphics dedicated hardware accelerator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hardware capabilitie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ideo encode and deco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 encode and decode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Graphics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maging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inux kernel 2.6.2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0.10.2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DC0-364B-4A34-A512-921133FA952B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in Android: why ?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a mature multimedia framework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a flexible framework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supported by an active communit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T-Ericsson U671X platform was developed and matured since years using GStreamer as multimedia framework with succes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is required by most of Linux framework: MEEGO, Ubuntu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Streamer graph based approach is naturally fitting U671X hardware split (1 GStreamer element for 1 HW block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C9AD-A917-4E4D-A522-8157BD8E19E2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to handle what ?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playback: audio/video streams from local storage, streaming or progressive download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ultimedia recording: Camera application, Sound Recorder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tadata retrieving: audio/video tags, bitrates, codec information, thumbnails generatio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o not touch to Android java API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Follow Android versions (cupcake, donut, éclair …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Respect internal Android APIs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FEB6-02AB-40E3-9839-2DBF71AEF66B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replace OpenCor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1108080" y="747720"/>
          <a:ext cx="62625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747720"/>
                    <a:ext cx="62625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D588-6738-4D31-9DDC-6B5083662ED5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GStreamer replace OpenCore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graphicFrame>
        <p:nvGraphicFramePr>
          <p:cNvPr id="116" name="Object 10"/>
          <p:cNvGraphicFramePr/>
          <p:nvPr/>
        </p:nvGraphicFramePr>
        <p:xfrm>
          <a:off x="1108080" y="747720"/>
          <a:ext cx="625968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747720"/>
                    <a:ext cx="62596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A28-1864-4831-BE18-94AFEB0A5BBD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Porting GStreamer on Android, what are the difficulties ?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droid isn’t built from classical Linux way (no pkg-config, no configure, no makefile…) it is required to adapt GStreamer build process to Android on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Glib isn’t provided natively by Android, need to add it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of this have required to rewrite +70 Android makefiles (.mk)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but it was also an opportunity to carefully select the embedded elements to optimize GStreamer memory foot print and speed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Today U671X android platform embeds 273 elements split in 39 GStreamer plugin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use dynamic libraries to not break GStreamer (LGPL) and Android (Apache) licenses term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4BD3-80C4-4A39-A609-AB2707506A33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diaPlayer services 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laybin2 is used to handle playback, streaming and progressive download servic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laybin2 has been customized to reduce memory consumption, with Collabora Multimedia partnership.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2 dedicated sinks for audio and video rendering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 sink requesting adaptation in Android AudioTrack clas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ake match GStreamer states (PAUSED, PLAYING …) and events (EOS, SEEK, ASYNC-DONE) to Android MediaPlayer expected states and messag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ll the complexity to handle local playback, streaming or progressive download is hidden by playbin2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3524400" y="6454800"/>
            <a:ext cx="2666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October 27, 2010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1324080" y="6454800"/>
            <a:ext cx="2152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514440" y="6454800"/>
            <a:ext cx="50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8736-0ECB-49B9-98A7-DD6E4DBC6AE6}" type="slidenum">
              <a:rPr b="0" lang="en-US" sz="1000" spc="-1" strike="noStrike">
                <a:solidFill>
                  <a:srgbClr val="d55c19"/>
                </a:solidFill>
                <a:latin typeface="Lucida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7920" y="189000"/>
            <a:ext cx="8163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5c19"/>
                </a:solidFill>
                <a:latin typeface="Lucida Sans"/>
              </a:rPr>
              <a:t>MediaRecorder services</a:t>
            </a:r>
            <a:endParaRPr b="0" lang="en-US" sz="2800" spc="-1" strike="noStrike">
              <a:solidFill>
                <a:srgbClr val="d55c19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7920" y="1133280"/>
            <a:ext cx="8163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 dedicated GStreamer pipeline with hardware accelerated plugin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a limited number of codec supported in Android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Video: MPEG4, H263, H264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14240" indent="-268200">
              <a:spcBef>
                <a:spcPts val="601"/>
              </a:spcBef>
              <a:spcAft>
                <a:spcPts val="601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udio: AMR NB, AMR WB, AAC-LC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nly one muxer required to handle all recording formats: gppmu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266760" indent="-266760">
              <a:spcBef>
                <a:spcPts val="675"/>
              </a:spcBef>
              <a:spcAft>
                <a:spcPts val="675"/>
              </a:spcAft>
              <a:buClr>
                <a:srgbClr val="d55c19"/>
              </a:buClr>
              <a:buFont typeface="Lucida Sans Unicode"/>
              <a:buChar char="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4l2src isn’t use as video source: Android Camera class provide the video fram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54:31Z</dcterms:created>
  <dc:creator>epatrud</dc:creator>
  <dc:description/>
  <dc:language>en-US</dc:language>
  <cp:lastModifiedBy>Benjamin Gaignard</cp:lastModifiedBy>
  <dcterms:modified xsi:type="dcterms:W3CDTF">2010-10-25T08:33:34Z</dcterms:modified>
  <cp:revision>197</cp:revision>
  <dc:subject/>
  <dc:title>TITLE - Lucida Sans, 28PT</dc:title>
</cp:coreProperties>
</file>